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B556-41C0-4C25-820C-AFA66727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3AE2-550D-4108-9EE3-62177EEDF9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915-E6F3-4686-89E1-F772AE6730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622B-D368-4C3A-A5CA-0F59E4650B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A1A-8A1C-4DE5-90CA-4828F4E05A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FDBB-8EF7-427F-91AB-58DB10DE7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DE8F-9418-4D27-843F-C38D842E7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A210-1120-45D9-AECA-007309634D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DEB9-9B16-4F56-B297-687B0CA342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472-6B65-4850-9F18-03FF550657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41AE-D405-4D53-8EA7-9EF40D811E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B5A8-B54C-4313-B5BD-84D8BF215B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2BBB-E27C-45EA-9634-24D60C0F11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DEC4-7039-48D9-897B-F12C0E3881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8EC3-5295-4B3A-BD6E-3827987C37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3E4-A25F-4A90-9A15-45111CF340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FDA7-72D4-4E38-B75F-D417163911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C80C-21CE-4FA4-A33D-5725068CEC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DA35-F521-434B-B509-4D21A1E58A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BEF6-24A7-41D3-89CF-556CCE199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3F12-53D7-49C6-8407-D748D7979C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1B02-8F91-4C26-A589-A57C787598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7255-2456-4C4F-96FB-4D81B54A3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F35B-2788-4C00-888B-65D4728D6F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0C7A-8D4E-4105-90BA-A421166F4C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8D75-3521-4763-A50E-AA875307D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0441-1F97-462A-8226-B0526C212F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056A-E469-4EB4-8B95-F07BE8C8C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AA7A-ED0A-4BEC-B824-69FA89212C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BD0C-6952-49EC-9FC5-634AB9A7A7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3A3D-81FD-4E73-B86E-3C5F3BD5E3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83B8-A3B0-4956-A684-83809B631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B557-3BE9-4210-82BA-7AE2A0B974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3A87-05F4-4926-A960-6400D1A904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CBA3-9528-499E-B62B-8179F41AFF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4E02-7764-4BBA-BCD8-C6BF3AE4C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8300-565C-43F4-A5CB-CA9F6A373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7EF9-842C-439F-8C0B-FD920FA9B7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5AA5-5381-4F88-90ED-3C2B958995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E0D8-525E-43C5-A21B-CE1B3646D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7FC9-4EA2-4F8D-A79F-6D28C8B517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4DD-4490-4CAE-B67F-9B2EF07B22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89E2-7E91-407C-9085-7D53CB793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2E23-2BC9-4607-8629-FBB03864E3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C1FE-8CB3-4256-84F0-6BBF6FE34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4429-ECF4-48B3-9CB9-36C7342AF8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3AAA-FA33-43CC-A084-1C8C9FD41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23F5-1B11-4335-843E-63D04E8C3B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7F87-6E34-4310-B671-3146765ACC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7E8-B306-439E-BDE1-8049E4045A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8C56-3A82-4DAC-957A-C56F9221CC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9F7A-D021-4E17-B2FF-0BD0CBE16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895-7FE7-4DE4-BEEE-011BAF78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39B-B7E5-44B2-A60A-88EAB7AC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CF60-D9FF-48C3-B721-950B70B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C2D7-398D-4697-AD81-C5383BDD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B81-E7ED-4DEC-B995-BE38459D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140-E94B-4D2A-A38E-1AEDF14F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311-769E-4AB0-9624-A4017BD4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8499-6853-43D4-BB6D-331A5E52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E81-8BB2-433C-B9A6-2EF7C0E2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EE8-4BBE-45E6-823A-61088EA1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CD1F-D1B9-42F9-90AC-68657FB0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0B7-7F89-4236-9856-947A5543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521E-B62E-47B9-96DC-964DDD34B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" Target="slide40.xml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ea typeface="Arial"/>
                <a:hlinkClick r:id="rId3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  <a:ea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N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arl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en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Willi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Pe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very first form of Democrac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League of Iroquois Nations/Five Tri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the original colonists leave England and the King’s strict r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Religious Pers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did the colonists first settle in 160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Jamestown, Virgin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second settlement in North Americ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Plymouth in Massachusetts in 1620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first Europeans in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Dutch, French and the Swed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two main Native American Tribes in Pennsylvania when the Colonists arri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he first settlement in Pennsylvania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Johan Printz’s settlement on Tinicum Is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oes Pennsylvania mean?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enn’s Woo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exchange of goods and services without mon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barte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re the Society of Frie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t is what the Quakers were first called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re the three sis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n, squash, and beans grown toge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Algonquins and Iroquo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ly Experiment, what are the three main poi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reedom of religion and speech; everyone equal; people had a voice in the govern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William Penn acquire his 29 million acres in North Ame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ebt The King owed his fa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Pennsbury Manor and where was it loca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illiam Penn’s home on the Delaware Riv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the Delawares show the first settlers in Pennsylvani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atch fish, hunt deer, trap animals, and grow the three sist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Philadelphia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ity of Brotherly Lo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Longhou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id William Penn show Tamanend resp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nn paid his tribe the Delawares for the land King Charles gave him and treated them fair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the name of the boat traveled over the ocean 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lc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he King could not repay the money he owed William Penn’s father, what did Penn ask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land in the New Wor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sweat lodge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e illness and cleanse the bod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were all of the European Countries ruled b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Kings and Quee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Multi-Family dwellings for 10 to 12 Iroquois famil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happened if you did not believe in the King and Queen’s Church of Engl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were treated unfairly, put in jail, or killed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was it so hard to find out about the early Native Americans?……………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was no written language left behi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d the earliest Native Americans travel across to get away from the Ice Age in Europe and Asia and follow their food/g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Bering Ice Bri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Richard DiMarco</cp:lastModifiedBy>
  <dcterms:modified xsi:type="dcterms:W3CDTF">2015-11-02T22:20:45Z</dcterms:modified>
  <cp:revision>70</cp:revision>
  <dc:subject/>
  <dc:title>No Slide Title</dc:title>
</cp:coreProperties>
</file>